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02D1-9792-4F73-A645-CF259040D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2361-02CA-47FC-9220-72D6978F2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D4D1-3F61-496E-8B2F-3248BABC1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C6DA-549F-4C51-9319-41B13A3EB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27F0-08EC-490C-A095-E55317482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3616-859A-4340-B15D-E236E0084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4305-1F2F-4DF2-BAAB-40E3E3A8D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E6DD-21D1-4FB6-BC35-A206BFEAD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B638-CE77-4737-8527-BAB3FD8C9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B402-1328-4729-8D21-3D291B4C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5E32-DD97-4CED-B06E-6053377A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1442-2829-42E1-9485-79E25D7C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0D1FF-9114-4100-B0F9-A945E8E04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5800" y="162000"/>
            <a:ext cx="7848720" cy="64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90720" y="538200"/>
            <a:ext cx="7086600" cy="58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38080" y="476280"/>
            <a:ext cx="7315200" cy="60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43000" y="538200"/>
            <a:ext cx="6934320" cy="57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66680" y="538200"/>
            <a:ext cx="701064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90720" y="601560"/>
            <a:ext cx="7010280" cy="57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19320" y="663480"/>
            <a:ext cx="670536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43000" y="601560"/>
            <a:ext cx="6858000" cy="56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371600" y="665280"/>
            <a:ext cx="6553080" cy="54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915840"/>
            <a:ext cx="670572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43000" y="665280"/>
            <a:ext cx="678168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162000"/>
            <a:ext cx="77724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295280" y="663480"/>
            <a:ext cx="662940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223920"/>
            <a:ext cx="7772400" cy="64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351000"/>
            <a:ext cx="7467840" cy="61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66680" y="349200"/>
            <a:ext cx="7239240" cy="59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412920"/>
            <a:ext cx="7543800" cy="62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43000" y="601560"/>
            <a:ext cx="6858000" cy="56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66680" y="538200"/>
            <a:ext cx="701064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539640"/>
            <a:ext cx="7239240" cy="59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6T07:17:02Z</dcterms:created>
  <dc:creator>Fr.ALBERTO Wissam</dc:creator>
  <dc:description/>
  <dc:language>en-US</dc:language>
  <cp:lastModifiedBy>Fr.ALBERTO Wissam</cp:lastModifiedBy>
  <dcterms:modified xsi:type="dcterms:W3CDTF">2004-08-16T08:29:46Z</dcterms:modified>
  <cp:revision>2</cp:revision>
  <dc:subject/>
  <dc:title>Slide 1</dc:title>
</cp:coreProperties>
</file>